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BE7D-9269-44BF-81EE-CCE0550C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7354-1381-48EE-B371-0A7DCA492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0463-58CC-4C79-A1AE-0CFFD0333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4F62-D55E-4CEA-B89F-D47766C88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4007-7146-4514-B420-D99E6E6002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809E-B625-44F2-9907-A841509CB3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4F33-E6C3-4984-AD3F-89BF2284C8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9857-31B5-4F09-BC84-6862210FFA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9A63-D68D-4D3A-867B-D74FE42C94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367F-0472-4C67-A238-BA23489712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550F-00C5-4E31-8851-1BEAB0E2E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BCCD-4271-4CA0-B6F0-9714C34E5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20DC-3766-41DF-B039-B80A55D26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6791-8C73-4C3F-848F-8A3FB5F906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7791-B84B-4361-B14D-90073E01E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8F85-B381-43C9-BF77-9401DB1D34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39DB-0964-45C1-8DFC-70E646221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D153-CA4D-45BC-B826-B5F673497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AD5E-F383-4F2F-95BC-CF12E3BDB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3D30-FCB9-456E-9C0A-2609DF881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F4A7-2AA3-4A40-B6E1-7F4524A8E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A89D-FEAD-4F71-B238-988572A3B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95E9-36B1-469C-9962-188567BBC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44CE-ED04-4F8C-BD6A-0AFC735E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3BF-8C58-4730-9DEA-CE02828C438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35A-98B5-4513-BE38-7A9B8E18BB53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You may have heard this before somewhere…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00000" y="3789000"/>
            <a:ext cx="76327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Most of the world has climat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in Britain they have …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athe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4864-E1D9-4A4B-9A66-A394D5DB5F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Here is the diagram that on the wiki moves!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is one last animation on the wiki to remind you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871640" y="1270080"/>
            <a:ext cx="5400720" cy="43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E7E1-8CE2-46C3-99E2-FCFADD0F5C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weather forecasters will get caught out by high-pressure conditions.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sually they will produce clear skies, but occasionally it's a little differ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sinking air warms up, but there is a possibility that a temperature inversion could occur, where there is warmer air above cooler ai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(usually it is the other way round in the atmosphere).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version happens because the clear skies mean the Earth's surface loses a lot of heat - there is no insulating layer of clou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ool surface means cool air temperatures near the surfa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cool air is dense and hard to shift, so the warmer descending air sits on top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this air is moist, the water vapour can condense into a dreary layer of cloud which hangs around for days, since the winds are too light to disperse i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CA22-A828-4AA8-8387-0CE84EBBC9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what happened for some of us last wee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was an inversion layer that kept the cloud hanging abo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r others the problem was early morning mist that took a long time to clea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s there is no cloud, once the sun has gone down, heat is radiated out from the Earth into spac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lling temperatures allow any water vapour in the air to condense into low lying mis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t takes the sun a while in the morning to ‘burn it off’ – in other words warm up the air enough to evaporate the water droplets into water vapou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4B26-EA07-46D3-A939-171885CE8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Another issue with Anticylon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ecause the air is pressing down and there is little win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n cities, such as London, and other places too, the air gets a hazy look, both in Summer and in win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is is because any pollution produced is stuck at a low level and builds up over tim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n the past when everyone burnt coal on their fires, winter fogs could last for days. These were called smogs ( smoke + fog) and lead to many deaths from pneumonia, pleurisy and bronchitis.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EA56-D13A-47FC-AF85-E24052FD8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58920" y="260280"/>
            <a:ext cx="583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hoked streets: For years London was synonymous with thick fogs - indeed, the city's pea-soupers were immortalised in the works of Charles Dickens. But the smoke-laden fog that shrouded London from 5-9 December 1952 was the worst single incident of air pollution in the U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onductors walked in front of buses holding torches or flares in order to see street signs - and so drivers could see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oal deliveries: Although soon coal deliveries were to become a thing of the past, change came too late to save the thousands who fell prey to the trapped toxin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smog of 1952 was thought to have killed at least 4,000 people - particularly the elderly and infirm - and the death rate remained above average up until Christma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50920" y="62064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671B-CBCC-4A8A-BC9A-F758962C74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697800" cy="50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6A32-629F-4036-87F5-1A355D9F9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ext week we are going to look at an altogether more complex weather system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s part of that, you need to be familiar with various cloud types – so a small direction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9101-2CDD-477F-9C0E-AB868BF88C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method of cloud classification was proposed by Luke Howard (1803) who named the clouds based on their form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irr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cur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trat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lay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umul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hea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imb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rain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on their height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C3EF-E3B3-43EA-ABF8-B4768BDD75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50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6AE5-7EDE-453B-A9B3-A9715DC1F9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529080" cy="2240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irrus &amp; cirrostrat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644640"/>
            <a:ext cx="822960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most common form of high-level clouds are thin and often wispy cirrus clou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ypically found at heights greater than 6,000 meters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irrus clouds are composed of ice crystals that originate from the freezing of supercooled water drople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irrus generally occur in fair weather and point in the direction of air movement at their eleva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932360" y="7398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4928-DBF8-418F-BB3B-94A12B6BB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because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on the edge of several air mass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of which are having arguments with each 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who wins changes all the tim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BC0-306D-4BBB-A7D1-B5374286E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102960"/>
            <a:ext cx="28814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Altocumulus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iddle layer cloud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2879640"/>
            <a:ext cx="86421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tocumulus may appear as parallel bands or rounded masse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ypically a portion of an altocumulus cloud is shaded, a characteristic which makes them distinguishable from the high-level clou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y are often come before a cold front which usually carries rain with 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r altocumulus clouds on a warm and humid summer 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Comic Sans MS"/>
              </a:rPr>
              <a:t>morning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is commonly followed by thunderstorms later in the da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11280" y="0"/>
            <a:ext cx="1882800" cy="2797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651640" y="189000"/>
            <a:ext cx="3159000" cy="23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0662-5E68-4FD9-811C-96C02DC689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lto strat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39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to is middl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tratus is layer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t much rain should come with this on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932360" y="1989000"/>
            <a:ext cx="3848040" cy="22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BC57-6D79-42EC-8F3C-8934C08B9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92360" y="404280"/>
            <a:ext cx="2159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Nimbo-</a:t>
            </a:r>
            <a:br>
              <a:rPr sz="3600"/>
            </a:b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stratu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3139560"/>
            <a:ext cx="864216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Nimbostratus are dark, low-level clouds at a height of 2,000 met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Nimbo meaning rain and stratus meaning layer gives continuous not-very-heavy rai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However, when temperatures are cold enough, these clouds may also contain ice particles and snow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508720" y="189000"/>
            <a:ext cx="3456000" cy="2333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B4F2-4156-4C80-95A6-BF147D9BFB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4680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tratocumul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995560"/>
            <a:ext cx="8642160" cy="36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tratus is a layer and cumulus means he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o the clouds form a layer of heaps, and can give quite heavy showers, but they do not usally last too lo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y vary in colour from dark grey to light grey and may appear as rounded masses, rolls, etc., with breaks of clear sky in between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3979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9DB9-9184-4477-80B5-70EC2DE639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o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g is the lowest cloud of all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CBE3-7984-40BF-AAFD-167FB318C6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8640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ir weather Cumul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8642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are know as fair weather cumulus ( heaps) small white like cotton wool ball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have flat bottoms which are quite low down and a smallish heap of white cloud abov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56000" y="836640"/>
            <a:ext cx="424800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DCB1-C820-421A-A02C-3A8FB78FE1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You may sometimes see one of these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umulonimbu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ttom is flat and black, often with the rain already falling out of it in huge drop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Quite often there is thunder and lighten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‘heap’ part reaches high into the sky – often to the level of the cirrus cloud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340000" y="1125360"/>
            <a:ext cx="4525920" cy="30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F8B3-0BE0-4EB4-B654-D7DC85E74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6256-38CE-4024-B13E-5208BA92BD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High’s and Low’s bring us different weather!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24008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0D7B-7A9B-45C0-9555-D77D6ED00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e are going to watch a video (I hope!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want you to notice the weather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then going to talk about what causes i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you have seen (??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was the weather like in the vide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due to a pressure system called an anticyclon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going to see what an anticyclone is lik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AE56-72BA-41E4-A8F4-900B503CC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eather on Friday at Midda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052280"/>
            <a:ext cx="4244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es anyone know what these lines are called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hat do they measur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hy do you think the word HIGH is written in the middle over the UK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you were in the UK on Friday what was your weather lik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ice that compared with the low pressure, the lines are widely spac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50920" y="1484280"/>
            <a:ext cx="4184640" cy="496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9642-CA94-4A20-AD06-1743BF40B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Here are the isobars again. What does the other map show?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ere the high is, what is the wind like?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ich direction is the wind flowing around the high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Look at the spacing of the isobars around the high and the low. What do you notice?</a:t>
            </a:r>
            <a:endParaRPr b="0" lang="en-US" sz="24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240" y="1844640"/>
            <a:ext cx="4154400" cy="468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93696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839A-7A89-4B77-A5E3-427A0F728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at do you notice about the cloud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The cloud to the NW of the UK is a thick layer of cloud. Do you know what that is called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The cloud over southern France and South Spain is little lumps. Do you know what that is called?</a:t>
            </a:r>
            <a:endParaRPr b="0" lang="en-US" sz="24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6200" cy="460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20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A124-5993-4444-B1CB-E29B9E130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an anticyclone has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igh pressu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ardly any wind at the cent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Very little clou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Very light winds around the outside going clockwise on this occas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 fact in the northern hemisphere ALL anticyclones have winds rotating in a clockwise direction. How do you think they rotate in the southern hemisphere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tation is due to the fact that earth is spinning known as the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oriolis Effect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7F12-BA4B-4A82-80C0-58A1E43C2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why does high pressure usually give clear skies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air is a high pressure, so it sinks towards the groun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s the air descends, the molecules become compressed, the pressure increases and it warm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air is warming, any moisture in the atmosphere is evaporated so no clouds can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sky is clea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nticyclones can be very large, typically at least 3,000 km wid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become established, they can give several days  (or even longer) of settled weath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D960-555F-4CC4-8278-2337240024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22:19:33Z</dcterms:created>
  <dc:creator>Lindy</dc:creator>
  <dc:description/>
  <dc:language>en-US</dc:language>
  <cp:lastModifiedBy>Lindy</cp:lastModifiedBy>
  <dcterms:modified xsi:type="dcterms:W3CDTF">2008-09-29T12:29:33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